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B5F-A000-43C6-BBD6-3F16A182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293-8F36-4CCC-AECA-BA36F0A1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132-6461-4A4C-84ED-8CC08220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5FF-89C7-4110-AEA2-AA2E203A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92E-38F9-4458-8B97-F20CD352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519-AE77-463E-A417-5E3E0F55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2CF-2878-4471-99E8-D760C4EB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1D1-9ECD-49AF-8D04-4636EE9A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1F3-77C0-4F35-833E-896DE542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CF7-C26B-45BE-B9CB-E518338D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A71-B757-44FA-B0DC-11F11D83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826-AEE9-403B-98FC-5D91770A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F833-4F80-4E90-930F-CF075356B32E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xemplos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6 000 000 cm </a:t>
            </a: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6 000 000 cm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60 km </a:t>
            </a:r>
            <a:br>
              <a:rPr sz="40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nta-se 5 casas para a esquerda a partir das unidades)</a:t>
            </a:r>
            <a:br>
              <a:rPr sz="2400"/>
            </a:br>
            <a:br>
              <a:rPr sz="2400"/>
            </a:b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10 km = 1 000 000 cm </a:t>
            </a:r>
            <a:br>
              <a:rPr sz="4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nta-se 5 casas para a direita a partir das unidad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907920"/>
          <a:ext cx="8229600" cy="7509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ló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tó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â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3" name="Line 19"/>
          <p:cNvSpPr/>
          <p:nvPr/>
        </p:nvSpPr>
        <p:spPr>
          <a:xfrm flipH="1">
            <a:off x="5148000" y="2708280"/>
            <a:ext cx="14436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0"/>
          <p:cNvSpPr/>
          <p:nvPr/>
        </p:nvSpPr>
        <p:spPr>
          <a:xfrm flipH="1">
            <a:off x="4858920" y="2637000"/>
            <a:ext cx="14436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1"/>
          <p:cNvSpPr/>
          <p:nvPr/>
        </p:nvSpPr>
        <p:spPr>
          <a:xfrm flipH="1">
            <a:off x="4571640" y="2637000"/>
            <a:ext cx="14436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2"/>
          <p:cNvSpPr/>
          <p:nvPr/>
        </p:nvSpPr>
        <p:spPr>
          <a:xfrm flipH="1">
            <a:off x="4067280" y="2565360"/>
            <a:ext cx="28872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3"/>
          <p:cNvSpPr/>
          <p:nvPr/>
        </p:nvSpPr>
        <p:spPr>
          <a:xfrm flipH="1">
            <a:off x="3851280" y="2637000"/>
            <a:ext cx="21600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>
            <a:off x="4500720" y="3068640"/>
            <a:ext cx="0" cy="936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684360" y="1268280"/>
            <a:ext cx="7559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0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907920"/>
          <a:ext cx="8229600" cy="12258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ló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tó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â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1" name="AutoShape 21"/>
          <p:cNvSpPr/>
          <p:nvPr/>
        </p:nvSpPr>
        <p:spPr>
          <a:xfrm rot="5400000">
            <a:off x="3888360" y="3609000"/>
            <a:ext cx="1368360" cy="576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492360" y="4600440"/>
            <a:ext cx="28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 000 000 cm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PT" sz="4000" spc="-1" strike="noStrike">
                <a:solidFill>
                  <a:srgbClr val="ff5050"/>
                </a:solidFill>
                <a:latin typeface="Arial"/>
              </a:rPr>
              <a:t>Problemas com escalas</a:t>
            </a:r>
            <a:br>
              <a:rPr sz="4000"/>
            </a:b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problemas com escalas permitem-nos encontrar três elementos:</a:t>
            </a:r>
            <a:br>
              <a:rPr sz="3200"/>
            </a:b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a distância real; 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a distância no mapa; 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a escala do map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escala"/>
          <p:cNvPicPr/>
          <p:nvPr/>
        </p:nvPicPr>
        <p:blipFill>
          <a:blip r:embed="rId1"/>
          <a:stretch/>
        </p:blipFill>
        <p:spPr>
          <a:xfrm>
            <a:off x="1476360" y="1741320"/>
            <a:ext cx="6120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calculo dist mapa"/>
          <p:cNvPicPr/>
          <p:nvPr/>
        </p:nvPicPr>
        <p:blipFill>
          <a:blip r:embed="rId1"/>
          <a:stretch/>
        </p:blipFill>
        <p:spPr>
          <a:xfrm>
            <a:off x="250920" y="3159000"/>
            <a:ext cx="5688000" cy="3422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1640" y="2779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álculo de Distâncias no M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132000" y="1268280"/>
            <a:ext cx="1467000" cy="1362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20560" y="1268280"/>
            <a:ext cx="23400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nunciado: A distância real entre Lisboa e Madrid é de 600 Km. A que distância se encontram separadas estas duas cidades num mapa de com Escala de 1/20 000 00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 flipH="1">
            <a:off x="2141280" y="2168640"/>
            <a:ext cx="1260360" cy="27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3762360" y="1898640"/>
            <a:ext cx="179280" cy="297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032360" y="2349360"/>
            <a:ext cx="179280" cy="297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611280" y="30672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solu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madrid"/>
          <p:cNvPicPr/>
          <p:nvPr/>
        </p:nvPicPr>
        <p:blipFill>
          <a:blip r:embed="rId3"/>
          <a:stretch/>
        </p:blipFill>
        <p:spPr>
          <a:xfrm>
            <a:off x="4572000" y="1628640"/>
            <a:ext cx="45720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7:59:51Z</dcterms:created>
  <dc:creator>Felipe Mendes</dc:creator>
  <dc:description/>
  <dc:language>en-US</dc:language>
  <cp:lastModifiedBy>Anabela</cp:lastModifiedBy>
  <dcterms:modified xsi:type="dcterms:W3CDTF">2012-07-12T16:56:19Z</dcterms:modified>
  <cp:revision>12</cp:revision>
  <dc:subject/>
  <dc:title>       A ESCALA   A ESCALA estabelece a relação entre as distâncias no mapa e as distâncias reais correspondentes, ou seja, indica-nos quantas vezes a realidade foi reduzida. </dc:title>
</cp:coreProperties>
</file>